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5F4-3C4B-45A0-AF8D-052A70E8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ACA-D84C-4ACD-A48C-404EEBFF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B42-7E9E-44A5-A985-5B0B8B4C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0E2-2FBD-4ABB-AEE3-97241043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E82-F8D8-4D1B-AB9C-13069A99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080-92E6-42BD-8B40-3F3AF819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883-E104-4C7A-964B-D6AA2E7C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4B5-17E9-4084-968C-3FF66839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BCC-D329-4DDD-935B-DF806F32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66D-3FB8-4F60-881F-62AF45F9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98D-F158-4272-8987-AEB2C5A1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007-E1BF-451B-90FE-6FFAFB48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1032-E246-4622-9B6D-08A1AE6A0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334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800" spc="-1" strike="noStrike">
                <a:solidFill>
                  <a:srgbClr val="ffff00"/>
                </a:solidFill>
                <a:latin typeface="Impact"/>
              </a:rPr>
              <a:t>Mitä tehdä työkaverin ärsyttämiseksi kun hän on poissa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14640" y="152280"/>
            <a:ext cx="4914720" cy="655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436680"/>
            <a:ext cx="7272360" cy="6040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76480" y="271440"/>
            <a:ext cx="6789600" cy="631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32080" y="114480"/>
            <a:ext cx="4479840" cy="662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1720" y="398520"/>
            <a:ext cx="8078760" cy="605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8600" y="372960"/>
            <a:ext cx="8146800" cy="6110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46:26Z</dcterms:created>
  <dc:creator>Marcel Allemann</dc:creator>
  <dc:description/>
  <dc:language>en-US</dc:language>
  <cp:lastModifiedBy>Tove Rehelä</cp:lastModifiedBy>
  <dcterms:modified xsi:type="dcterms:W3CDTF">2005-02-08T13:37:54Z</dcterms:modified>
  <cp:revision>8</cp:revision>
  <dc:subject>Spass &amp; Fun</dc:subject>
  <dc:title>PowerPoint Presentation</dc:title>
</cp:coreProperties>
</file>