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171F-896F-4BBC-B1C2-3AB2B5520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CCAD-5FB9-437B-B7D3-9EBBB0AC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007B-2876-4653-B293-BBEAA62A0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F97A-549A-4035-987B-349B69B8C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2D4A-8698-4F8A-9DD5-BF453092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5604-91C3-4C1B-B5EF-7CCA1B50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4D19-2597-4D0D-A3FC-CA6DE603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B22E-FABF-43A7-92CF-36762C48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DD12-126E-4854-BF15-53DF71F2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022B-862D-4E46-BD59-7270EC15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7D8F-3953-4586-B4F6-E0DEE1F1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587D-AB9B-4833-A057-C96522D4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6436-041D-4A0F-9E0A-F268A31E1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3344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800" spc="-1" strike="noStrike">
                <a:solidFill>
                  <a:srgbClr val="ffff00"/>
                </a:solidFill>
                <a:latin typeface="Impact"/>
              </a:rPr>
              <a:t>Mitä tehdä työkaverin ärsyttämiseksi kun hän on poissa..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14640" y="152280"/>
            <a:ext cx="4914720" cy="6553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00000" y="436680"/>
            <a:ext cx="7272360" cy="6040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76480" y="271440"/>
            <a:ext cx="6789600" cy="6315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32080" y="114480"/>
            <a:ext cx="4479840" cy="6629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1720" y="398520"/>
            <a:ext cx="8078760" cy="6059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98600" y="372960"/>
            <a:ext cx="8146800" cy="6110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4:46:26Z</dcterms:created>
  <dc:creator>Marcel Allemann</dc:creator>
  <dc:description/>
  <dc:language>en-US</dc:language>
  <cp:lastModifiedBy>Tove Rehelä</cp:lastModifiedBy>
  <dcterms:modified xsi:type="dcterms:W3CDTF">2005-02-08T13:37:54Z</dcterms:modified>
  <cp:revision>8</cp:revision>
  <dc:subject>Spass &amp; Fun</dc:subject>
  <dc:title>PowerPoint Presentation</dc:title>
</cp:coreProperties>
</file>