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9282-C745-408B-9A4B-1904B6112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F9BA-FF84-49F1-B531-7924BA7D1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3C87-516F-46C8-B22C-81583177A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E664-5D05-4617-BCFC-7E779B2AB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B857-DBB1-4E42-8918-186D0A73C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8D90-F5FA-46C9-829D-F9907330A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64BE-CA22-43FA-89F6-9B9AEE631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BB45-FED8-4E08-8AC3-2C3BB2F01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983A-6F59-4457-B394-59D730759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BAA8-5EB7-4138-A9B2-50963E69A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E011-5DB9-4A03-9694-448F5307E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4954-3B24-4F80-B103-8D65B228C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434E2-6531-40C0-A080-60C917AD9E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33344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800" spc="-1" strike="noStrike">
                <a:solidFill>
                  <a:srgbClr val="ffff00"/>
                </a:solidFill>
                <a:latin typeface="Impact"/>
              </a:rPr>
              <a:t>Mitä tehdä työkaverin ärsyttämiseksi kun hän on poissa..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114640" y="152280"/>
            <a:ext cx="4914720" cy="65534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p:transition spd="slow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00000" y="436680"/>
            <a:ext cx="7272360" cy="60404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176480" y="271440"/>
            <a:ext cx="6789600" cy="63151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332080" y="114480"/>
            <a:ext cx="4479840" cy="66294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31720" y="398520"/>
            <a:ext cx="8078760" cy="60595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98600" y="372960"/>
            <a:ext cx="8146800" cy="61102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6T14:46:26Z</dcterms:created>
  <dc:creator>Marcel Allemann</dc:creator>
  <dc:description/>
  <dc:language>en-US</dc:language>
  <cp:lastModifiedBy>Tove Rehelä</cp:lastModifiedBy>
  <dcterms:modified xsi:type="dcterms:W3CDTF">2005-02-08T13:37:54Z</dcterms:modified>
  <cp:revision>8</cp:revision>
  <dc:subject>Spass &amp; Fun</dc:subject>
  <dc:title>PowerPoint Presentation</dc:title>
</cp:coreProperties>
</file>