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A51-5384-47E2-AE99-B58ECF82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C3B-FE79-41B7-9FAB-BA041C04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1F4-99F0-4B3B-8978-A785E883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01A-664A-4617-9B0B-17258CF9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3F1-2698-4B6E-842A-F54DFBA5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016-3F3E-426C-9757-0EDB40EE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B22-7F69-4B5B-887F-CDEB686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BC6-7F48-443C-A7A3-35576D59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D4B-86FA-41E5-90C9-E7883A1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6E6-9982-460E-9BA9-C607269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F9B-E4D0-4CA9-99DA-04DCED9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E19-9C6B-4E99-A222-3D747C1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5D6-4812-47C3-A3CC-7F5A3ABA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800" spc="-1" strike="noStrike">
                <a:solidFill>
                  <a:srgbClr val="ffff00"/>
                </a:solidFill>
                <a:latin typeface="Impact"/>
              </a:rPr>
              <a:t>Mitä tehdä työkaverin ärsyttämiseksi kun hän on poissa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14640" y="152280"/>
            <a:ext cx="491472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36680"/>
            <a:ext cx="7272360" cy="604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76480" y="271440"/>
            <a:ext cx="6789600" cy="63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32080" y="114480"/>
            <a:ext cx="447984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720" y="398520"/>
            <a:ext cx="8078760" cy="605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8600" y="372960"/>
            <a:ext cx="8146800" cy="611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46:26Z</dcterms:created>
  <dc:creator>Marcel Allemann</dc:creator>
  <dc:description/>
  <dc:language>en-US</dc:language>
  <cp:lastModifiedBy>Tove Rehelä</cp:lastModifiedBy>
  <dcterms:modified xsi:type="dcterms:W3CDTF">2005-02-08T13:37:54Z</dcterms:modified>
  <cp:revision>8</cp:revision>
  <dc:subject>Spass &amp; Fun</dc:subject>
  <dc:title>PowerPoint Presentation</dc:title>
</cp:coreProperties>
</file>